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DCB-5BD3-46C2-9CCB-16890C6A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B97-14A3-4961-AECD-4CA7F286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19D9C-023F-4AE3-98EC-9860EB30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DAFDF-771C-486D-9DCA-D22797A6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89442-B17D-403B-9E36-BAFFF4A2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8AEFC-75EA-4280-AF2C-73C5DF38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CC04B-0264-4B42-8336-D3F6B94D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7A9C5-3E36-4D6D-AB6B-255CF453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908B9-6377-4B03-9AF0-B9989AF5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7DD32-FB67-4B20-B30F-9B5F54FC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70B93-AAD8-4075-9F4D-75E0D400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093A3-6D67-4833-BC97-89E776D7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D22-E875-4995-8C57-F720DD47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6BF77-9BF8-407B-B6A1-B6E6C198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3ED34-65A8-4822-951F-E953C15A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CD16B-5439-4F52-9F6C-7CA2AEC6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A8CE4-3657-4644-85F3-A98A29C2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F18EA-93EC-480A-94A5-79B447A7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72766-56D7-4B3A-BF38-FE68ABE3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DCAFE-E778-4340-A968-2630B8E0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6DA98-4A18-4A27-A378-CE766A6D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A84D6-C81B-411C-95D3-A028A3AC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55A94-FB7F-4B8F-B3EC-82A12E7D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AF3-040E-4885-AE30-0E436BB2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1BD25-7E3B-4F92-AF0B-D403713A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958C3-FC48-4B4E-8893-B10ED7F8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87365-4F29-483B-8743-3A61E54F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0164A-D426-4B9C-B152-0263BADF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C5EB6-F415-4248-8F8A-215133CC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F42F7-F8CF-43C0-BE98-DAB1A4F0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29977-1B04-4330-9D53-AAB807F0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7722B-78D8-4E3D-977A-CBB748B3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C63A9-4F37-41FB-9C10-3C9EF7B9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BC91E-BAED-4DB2-82F7-824F138B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76BC-9ED3-4606-9011-4F768B0D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BC34E-3DD0-40A8-98AB-B7F6206E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0206B-B02F-49B8-8B6E-B219E5EF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F9406-86FA-42BA-8BD0-5B43098D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D838E-2C2C-47B3-9486-A752AAE1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4DDA2-DC9F-455D-A966-E499303F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B7125-E907-4A76-AF93-B32CC63B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16126-AABC-4B21-9B05-E94B941C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026C0-D70B-4109-AE67-0E04A668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6A03D-C81A-4F9B-94D4-B420B8C0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FC1B2-450C-49AC-ABE9-F11168C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A301-7BCA-4A0C-A3F6-FADFB41D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A9F54-B6FF-4006-83D1-D2AA9731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DD39F-9EDC-4066-854B-C6D3230C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ADE57-5347-49D9-B440-40396060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127BC-366E-4BAE-8DF8-BE279D58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DD360-A5D7-4F90-A189-6EFB0620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EE7A6-371C-47D3-9799-7F64A734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97F0C-8F50-4965-B188-E5AF8179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F6E97-3AF3-4813-BE55-C7519BFA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438EE-4EC9-4D5C-85C6-9B090F5C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3AB88-6F2D-4B8F-98B5-450359CC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5A8C-C0B4-4A75-AA3F-A83A16DB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6509F-4229-412A-A742-EFF44329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D7767-801E-436F-92B1-43265642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DC8F8-22C5-4C21-9E6B-099FF3AC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80862-0540-4021-A659-6B158751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EFB7B-66F6-49A3-8E7D-B9548ADD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C8DD9-AB50-44E2-8290-C063E891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864AA-105B-436E-ABD2-5283E50C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A3D95-2FC3-407F-BC1C-1B039FF6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FE64E-C62E-40B5-B0B4-BA4D8966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63A1A-8B11-490D-9CAC-FB563718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3571-1740-439B-87FA-FFFDDAC5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D322A-2F5D-4097-B405-312A68BF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F6091-2C0C-482B-A97D-60CA3A50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DC2F8-956B-4CB2-8A6C-F1C982A7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8604B-A51D-4518-B468-6273B423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BCDB1-AF9F-4989-A064-E65BD0EE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3C035-1035-4CE0-A9C6-FEA2C4E2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ACC28-581B-46AB-AFFB-CE1AFAFE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2DEFB-6202-4A6C-9AF3-473F54F2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882C7-9D3C-4114-B08B-F6422A27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808F4-63BB-428F-8C72-4858D613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6DA2-6049-4F42-955D-7D571BEC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EBDED-5D2D-4B7E-8D71-691DF81C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72C9F-7677-455E-B609-ABB0087B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13F4C-E128-45C2-95EF-C8D265BB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3C13D-B44B-4681-8B1F-AA43A2C7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9615A-4699-4588-8A3D-1F4AF80A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DD43F3-8A25-482B-AA75-78C969DB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40332-E094-47ED-BE13-762BD375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61742-5402-4046-ACA4-3FD64A4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0F4C2-BED5-4A78-9DE5-563C23B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E95379-2F19-4253-90FC-51E1CB7A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DEA3-7BF3-4FBF-BF45-65568593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8154A-7E19-4070-8CDD-4316D71D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FACE6-771F-49D0-8540-809FCD25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6E11B-33BF-423A-8421-3C558E6B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1FEEC-E8B1-4BAD-A5E2-1C1906BA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1368F-AF01-4647-862C-CF0D61B8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E5751-F3E6-49BE-ABB5-C6899081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EDC9F-A31B-4471-AD84-C379CE99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5391B-C19C-4D4F-98BF-A3B6C8E1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E33A1-4CD1-489C-9624-70690ACD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D83E9-92E9-4107-96DB-FB924080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20FC-6AE2-45F9-87AF-9F2C52C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2DC49-2966-402A-ADD8-269362B7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596AF-D029-44E6-B421-2FFA18A1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62DA39-9BCC-46B7-A150-60FDCE23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3A3B9-09E4-4A6D-8E1A-5B7CCA8B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D75130-934D-43B0-95AE-FEB5254F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D5B1A5-CDDB-4968-BAF3-9CAAF86F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77B31-B4A3-49B1-9E38-D64DF170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ACBD0-6CCA-4E3A-A101-38035E9D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D8D7B-A060-4ACC-BA43-D78B1293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A38909-D987-4488-A115-168C5E71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B4E-8F51-4962-8581-298314D3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4098-E2C8-4B28-9431-0B168516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77FB7-0E6E-4538-94F6-F5B4C2EB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FF4C4-5E0C-4F05-BB75-5CFB2C03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36EBE-1ED9-4BC2-A996-5DFA857E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80DD1B-8F9F-412C-BAFF-71B512DB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DA2B7-0282-4697-8AC3-6E3CC9E4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D4ED7D-2680-46AA-A4C2-7C043B14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133137-FA80-4F56-8F8F-CA965031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E1958-48C1-4580-81BE-1CBB12F2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91AD1-0B90-44B6-A4D1-A783A3F8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ACA9F3-BE18-418E-BE59-359BA641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B502-C134-408A-841E-E2DBFD29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21A74C-F7C4-4BBC-BACD-909A1C37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E6AD4-CE28-43C0-8144-98152DDA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F5DDF-9ADB-4BE5-9E9E-F39AFA56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845A7-94B2-4637-B5EF-2F8B7C44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4347E-4166-4496-9BAD-3739FC4B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04E183-5503-49F7-97EA-93FDF0CC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7019B-2E7C-4631-924D-05C19D2F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EE9272-3F50-4856-B9CA-11D8BF6A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81180D-1DF0-4038-BBBA-CF1151C4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AEFCA-2930-49A5-83FD-2C5A4905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F04E-F8E9-499E-B4D2-D9B4B04C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1C42C3-CD1D-4787-8D07-FA7CA833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7A7BDD-4FDE-4459-8AF1-0459E9B9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51333-97A8-4353-B80D-81376704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AD959-24A3-41B8-BA1D-2ACCA01A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CBFFA4-5CDD-481F-B0B8-44FA2B84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32D94-FF16-484D-B5AC-91C325AB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1A289C-1AE5-4C17-935E-2BAEBB75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0EFC3F-083E-4958-A9B9-8AA4F6E8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1447C-8130-487F-A1BA-02039388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48234B-C87B-45DB-8143-57FD701E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870B-D72D-4447-9DF1-9E6986D7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4B38B0-0D1B-42F2-B661-A6D0F405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80967E-B41F-44C7-A3F2-21F4827A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85A020-42A6-4177-AFEC-5E8C80EB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BF45BE-8F18-4030-84A9-6E130B36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18D0E-5AFC-4318-BB00-E5BC895C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829B4-16E6-4347-AF01-C2B8328E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C31D71-5C3A-42C0-B204-0896B5B5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BA1902-4DBF-4FE0-902D-35395B79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1E019-2A19-4CCF-9876-68CAFAD5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AD2D5F-1756-4556-B855-3B763CBA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ED20-9F5D-416E-9727-57321E54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EF9915-D4A3-47C4-B403-440D4BD2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048CDD-D268-46A0-8CF1-DCB78880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AA40A6-F59A-4131-A04C-030881AD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B46781-221E-4F21-9AB5-F2FC7454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2F15F-C869-415B-8960-22EB2FA3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32879-A249-438A-BED6-CDC38534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96FD68-89FC-4F54-845E-D9CC5A47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BFF809-350E-402E-BBAA-C01329EA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4B622-4548-4BF9-AFF3-ED4D04FC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E2CB19-56CA-4449-9AD8-85BC4D66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E5FA1-0724-4850-BE79-E99F4C9E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78E1B5-95DA-44A1-BD21-11ABDB47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F41E99-933E-4999-B4FB-07765686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E36B0C-BDA6-4845-89F8-0AB09DCB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E219-BECB-42A3-8F20-81018255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B366-084F-4769-A5BF-2EBA13C3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39EB3-E569-4773-9012-6F0BD71A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D99E7-ADC2-41D7-A6B7-5916505C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2B5-179F-455E-9E4D-DFA16010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00BA-2D8A-47AF-A819-209AA9F1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2FB24-7883-451C-9781-01AA500A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3A9B3-1BA0-4F6A-BD89-2EA2D050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6C14E-60D3-4836-ACB4-2E7A4B4F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5BFA-E0CD-4329-81F1-33C58730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4A31-F461-4138-84F4-C3EDAC0F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9530-183D-4D03-9331-5FEEFCC5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CFDA3-B850-4591-B10D-D431BEE5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CB7C9-605E-4E68-8C23-3AF45E55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6CA4-B5E7-484C-BCA3-E5E96269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74F-A3AE-4D54-A32D-E5D5C8A1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77D3-7B26-4641-9E43-BADDF233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4C646-9B2A-497D-BB6C-F0BB1200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B4FE-2510-4A4B-A987-B60BC34F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E2341-0BEF-4719-991F-C6B61DD5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222DD-53EE-4699-A444-40D01711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315F7-0859-4068-9F76-5C0B30E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4F85A-95A8-4EA5-9889-60C114B7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66315-231D-4918-B783-10066812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84A0D-D2C6-4611-9EAF-0381026F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F846-2269-4F26-AA01-215B0DFD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71B-DAC1-487C-8682-AB6199F2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7C471-B423-499A-AFD3-1F66B506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02EF0-F495-4AE6-A0E2-8CCED5F1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CD76A-D1E4-4052-AB24-D960B8FE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A958-1B93-49D0-AEFC-4C03A5F9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CF190-9CE5-4981-BEB1-EE35E30A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36D8A-DABB-48E4-B29D-20277E75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9179B-DEC2-4A5C-9161-06567F0A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E64FA-8509-4E1F-8A11-A3E023B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F1FB5-42CA-41B2-A172-D49F6FD5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8173B-D392-4282-B988-199E3BA0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440-8D00-4802-AF2D-845837A3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464AD-AD9A-4ACA-AD2B-F500E2CB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B119F-1B7B-42DE-B9CF-C68E09DB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4793C-4DC7-4FC4-AFCC-325153A7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38A9D-A5C8-42C8-9894-273D5276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99B7C-81F5-45B9-801A-355F72CD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C9B94-CB72-4733-BA6A-37966134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6BD88-8511-44B2-A6E4-5B4CD13F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47071-822C-4470-84E6-8FC22126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FA1BF-B32E-49FA-8119-46123BB6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24C0B-6B81-43A9-B3D2-79B0A6C2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248-03EF-45FD-B8EC-5BA497B1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F2845-7914-4EC6-9DD9-749A798E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B20D3-CB38-43D5-BA31-A3EC2AC6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6B496-66D4-49BB-84FB-484A3995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19FDC-D15E-49C1-9073-A3D60603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E5CBA-45E4-4010-B4E3-DF11A239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1C41D-CD73-47FB-894B-66AC952F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7113C-1F22-4885-AC4E-DA3C357F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DDB2A-A364-4ED6-9614-EFAC49CC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81229-BDA1-42D0-B03E-16090387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99B23-164E-4138-B3EC-5CA684CC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5F9-0628-4BAD-8F4C-C9908CEC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DD025-1BD9-4B31-8846-2CF45FC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C7711-EE6C-44CA-BD6E-66162065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1B53F-1114-49A7-B301-C61ED666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254B3-6B51-4983-A3FF-1897F243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BB46B-760E-420D-A27A-77454452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CC95A-6D8F-4E83-8910-BF2C1FBB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811D9-63FF-465B-9044-98811B04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9A9B8-634B-4E72-9FB5-F1F7FF19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D8FE8-F3A5-442A-B3EB-B3339693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6F3F8-E24A-4E61-93BD-79B9CC58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BB4-C532-45D1-88F8-770DE61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F749C-20A3-4657-A296-CFAAA0AC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8F6E5-A9C9-430F-AB30-DD2DA558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125F3-2696-4F68-B6B3-D8491946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F5C5B-1EB8-491E-A576-C9238CEF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C5784-B8C8-4396-BFB0-B6A0CCCC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FD05A-A08E-49A8-8D41-C161DC6B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5C5CF-C27D-4E2C-A48E-0342F75C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2B24D-0F9E-4A8A-9794-1A14C7DE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22BEE-36F0-447B-863A-5C4B791F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21DBE-0AB7-44FA-8130-D0BAABB7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E287-326D-41F7-9EC0-74888A5ED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6BBD-C67E-4A21-BF79-8A3803D739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5022-C760-42A2-A136-672A4FA362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6508-1EE1-425C-9A87-D29D747ECD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7A1B-FB73-4A57-BB1D-0A45D98AC9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3B61-50BE-46B2-B121-1720B3899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332C-8289-4501-ABFD-6314A0DB50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9CE2-56A4-4591-BF68-B5F4CB4806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7443-91BA-4C0C-A938-8209C87B0D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677F-6AC2-4DF7-BA16-031E021159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D6F1-F73F-4C4D-B227-1896B108A4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EA22-C057-4EAC-9118-D275CEE9BA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8681-903D-4360-8089-00977E1069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6A63-2B7D-4B67-A8BA-1A836A0DC7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254C-7413-493C-B4AA-E5BD2334A1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FA81-E315-426C-B669-94588D71C9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232-7E5A-4E99-A749-2043372229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2DF3-7DD0-435E-9B43-8180ACE330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99B2-EF8E-4BE5-87DF-D0DFBEFB79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6302-5CF9-4203-9B71-A95D6D5854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7998-1A3B-4272-8945-205DD558C4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072D-D19A-4DE9-A2A0-BB5BDB482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6538-7F22-483A-8C85-CB52D7530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F096-2E7B-4BCD-B423-D1ED92DE98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1B4A-65EB-4CFC-AF3B-EA77BE963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DEF2-42ED-403C-AD27-4DA5D71E9F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D016-7F5E-480F-AA63-91C5B5D1D6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E32C-F9DC-4917-A413-2E1A32D3E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A56F-5FC6-406D-949B-D79A709EC8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A6B4-7458-41A0-A13B-63F48CD8F9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E3DB-ED82-4F5A-9FD2-9A62B5AB39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BEE2-0661-4DFA-9863-7010CD5F5F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1B19-1537-4577-B541-E2F8B06D18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F445-C33F-4923-BEDA-5264B4578E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351D-8949-42F9-8E95-C7DF76EFDC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4744-FD41-4A13-A2B9-2D2E9908D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F19E-1DF2-4E1F-B3AE-4C6BB50FF6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B126-C475-4514-B0C6-EE4AD6D838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771F-8644-4F8A-8EA4-A85765715A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E9D9-D730-4000-8323-E507306A7C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2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432288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2" descr=""/>
          <p:cNvPicPr/>
          <p:nvPr/>
        </p:nvPicPr>
        <p:blipFill>
          <a:blip r:embed="rId1"/>
          <a:stretch/>
        </p:blipFill>
        <p:spPr>
          <a:xfrm>
            <a:off x="95400" y="849240"/>
            <a:ext cx="8953200" cy="5819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2"/>
          <a:stretch/>
        </p:blipFill>
        <p:spPr>
          <a:xfrm>
            <a:off x="6516720" y="735120"/>
            <a:ext cx="1285920" cy="5331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2627280" y="1989000"/>
            <a:ext cx="6000840" cy="18766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5" descr=""/>
          <p:cNvPicPr/>
          <p:nvPr/>
        </p:nvPicPr>
        <p:blipFill>
          <a:blip r:embed="rId4"/>
          <a:stretch/>
        </p:blipFill>
        <p:spPr>
          <a:xfrm>
            <a:off x="530280" y="4869000"/>
            <a:ext cx="1314360" cy="6858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5" descr=""/>
          <p:cNvPicPr/>
          <p:nvPr/>
        </p:nvPicPr>
        <p:blipFill>
          <a:blip r:embed="rId5"/>
          <a:stretch/>
        </p:blipFill>
        <p:spPr>
          <a:xfrm>
            <a:off x="2268360" y="4869000"/>
            <a:ext cx="1314720" cy="6858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5" descr=""/>
          <p:cNvPicPr/>
          <p:nvPr/>
        </p:nvPicPr>
        <p:blipFill>
          <a:blip r:embed="rId6"/>
          <a:stretch/>
        </p:blipFill>
        <p:spPr>
          <a:xfrm>
            <a:off x="3976560" y="4878360"/>
            <a:ext cx="1314720" cy="6858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5" descr=""/>
          <p:cNvPicPr/>
          <p:nvPr/>
        </p:nvPicPr>
        <p:blipFill>
          <a:blip r:embed="rId7"/>
          <a:stretch/>
        </p:blipFill>
        <p:spPr>
          <a:xfrm>
            <a:off x="573120" y="5907240"/>
            <a:ext cx="1314360" cy="6858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5" descr=""/>
          <p:cNvPicPr/>
          <p:nvPr/>
        </p:nvPicPr>
        <p:blipFill>
          <a:blip r:embed="rId8"/>
          <a:stretch/>
        </p:blipFill>
        <p:spPr>
          <a:xfrm>
            <a:off x="2257560" y="5907240"/>
            <a:ext cx="1314360" cy="6858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5" descr=""/>
          <p:cNvPicPr/>
          <p:nvPr/>
        </p:nvPicPr>
        <p:blipFill>
          <a:blip r:embed="rId9"/>
          <a:stretch/>
        </p:blipFill>
        <p:spPr>
          <a:xfrm>
            <a:off x="3965400" y="5916600"/>
            <a:ext cx="1314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3" descr=""/>
          <p:cNvPicPr/>
          <p:nvPr/>
        </p:nvPicPr>
        <p:blipFill>
          <a:blip r:embed="rId1"/>
          <a:stretch/>
        </p:blipFill>
        <p:spPr>
          <a:xfrm>
            <a:off x="109440" y="1060560"/>
            <a:ext cx="8925120" cy="52480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9" descr=""/>
          <p:cNvPicPr/>
          <p:nvPr/>
        </p:nvPicPr>
        <p:blipFill>
          <a:blip r:embed="rId2"/>
          <a:stretch/>
        </p:blipFill>
        <p:spPr>
          <a:xfrm>
            <a:off x="1969920" y="2266920"/>
            <a:ext cx="503280" cy="285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9" descr=""/>
          <p:cNvPicPr/>
          <p:nvPr/>
        </p:nvPicPr>
        <p:blipFill>
          <a:blip r:embed="rId3"/>
          <a:stretch/>
        </p:blipFill>
        <p:spPr>
          <a:xfrm>
            <a:off x="4788000" y="2276640"/>
            <a:ext cx="504720" cy="285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9" descr=""/>
          <p:cNvPicPr/>
          <p:nvPr/>
        </p:nvPicPr>
        <p:blipFill>
          <a:blip r:embed="rId4"/>
          <a:stretch/>
        </p:blipFill>
        <p:spPr>
          <a:xfrm>
            <a:off x="7812000" y="2266920"/>
            <a:ext cx="505080" cy="285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9" descr=""/>
          <p:cNvPicPr/>
          <p:nvPr/>
        </p:nvPicPr>
        <p:blipFill>
          <a:blip r:embed="rId5"/>
          <a:stretch/>
        </p:blipFill>
        <p:spPr>
          <a:xfrm>
            <a:off x="3389400" y="2638440"/>
            <a:ext cx="504720" cy="285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9" descr=""/>
          <p:cNvPicPr/>
          <p:nvPr/>
        </p:nvPicPr>
        <p:blipFill>
          <a:blip r:embed="rId6"/>
          <a:stretch/>
        </p:blipFill>
        <p:spPr>
          <a:xfrm>
            <a:off x="3348000" y="4203720"/>
            <a:ext cx="503280" cy="285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9" descr=""/>
          <p:cNvPicPr/>
          <p:nvPr/>
        </p:nvPicPr>
        <p:blipFill>
          <a:blip r:embed="rId7"/>
          <a:stretch/>
        </p:blipFill>
        <p:spPr>
          <a:xfrm>
            <a:off x="684360" y="4573440"/>
            <a:ext cx="502920" cy="285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9" descr=""/>
          <p:cNvPicPr/>
          <p:nvPr/>
        </p:nvPicPr>
        <p:blipFill>
          <a:blip r:embed="rId8"/>
          <a:stretch/>
        </p:blipFill>
        <p:spPr>
          <a:xfrm>
            <a:off x="5364000" y="5591160"/>
            <a:ext cx="503280" cy="285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9" descr=""/>
          <p:cNvPicPr/>
          <p:nvPr/>
        </p:nvPicPr>
        <p:blipFill>
          <a:blip r:embed="rId9"/>
          <a:stretch/>
        </p:blipFill>
        <p:spPr>
          <a:xfrm>
            <a:off x="3132000" y="6004080"/>
            <a:ext cx="5032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2" descr=""/>
          <p:cNvPicPr/>
          <p:nvPr/>
        </p:nvPicPr>
        <p:blipFill>
          <a:blip r:embed="rId1"/>
          <a:stretch/>
        </p:blipFill>
        <p:spPr>
          <a:xfrm>
            <a:off x="189000" y="1398600"/>
            <a:ext cx="8124840" cy="12286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3" descr=""/>
          <p:cNvPicPr/>
          <p:nvPr/>
        </p:nvPicPr>
        <p:blipFill>
          <a:blip r:embed="rId2"/>
          <a:stretch/>
        </p:blipFill>
        <p:spPr>
          <a:xfrm>
            <a:off x="260280" y="2784600"/>
            <a:ext cx="8267760" cy="33811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9" descr=""/>
          <p:cNvPicPr/>
          <p:nvPr/>
        </p:nvPicPr>
        <p:blipFill>
          <a:blip r:embed="rId3"/>
          <a:stretch/>
        </p:blipFill>
        <p:spPr>
          <a:xfrm>
            <a:off x="3348000" y="1897200"/>
            <a:ext cx="1511280" cy="285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9" descr=""/>
          <p:cNvPicPr/>
          <p:nvPr/>
        </p:nvPicPr>
        <p:blipFill>
          <a:blip r:embed="rId4"/>
          <a:stretch/>
        </p:blipFill>
        <p:spPr>
          <a:xfrm>
            <a:off x="5435640" y="1898640"/>
            <a:ext cx="1512720" cy="285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9" descr=""/>
          <p:cNvPicPr/>
          <p:nvPr/>
        </p:nvPicPr>
        <p:blipFill>
          <a:blip r:embed="rId5"/>
          <a:stretch/>
        </p:blipFill>
        <p:spPr>
          <a:xfrm>
            <a:off x="3224160" y="2276640"/>
            <a:ext cx="863640" cy="285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9" descr=""/>
          <p:cNvPicPr/>
          <p:nvPr/>
        </p:nvPicPr>
        <p:blipFill>
          <a:blip r:embed="rId6"/>
          <a:stretch/>
        </p:blipFill>
        <p:spPr>
          <a:xfrm>
            <a:off x="5940360" y="2287440"/>
            <a:ext cx="1440000" cy="285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7"/>
          <a:stretch/>
        </p:blipFill>
        <p:spPr>
          <a:xfrm>
            <a:off x="1557360" y="3860640"/>
            <a:ext cx="69721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10520" cy="3276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9" descr=""/>
          <p:cNvPicPr/>
          <p:nvPr/>
        </p:nvPicPr>
        <p:blipFill>
          <a:blip r:embed="rId2"/>
          <a:stretch/>
        </p:blipFill>
        <p:spPr>
          <a:xfrm>
            <a:off x="3348000" y="2359080"/>
            <a:ext cx="216000" cy="285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9" descr=""/>
          <p:cNvPicPr/>
          <p:nvPr/>
        </p:nvPicPr>
        <p:blipFill>
          <a:blip r:embed="rId3"/>
          <a:stretch/>
        </p:blipFill>
        <p:spPr>
          <a:xfrm>
            <a:off x="4654440" y="2359080"/>
            <a:ext cx="216000" cy="285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9" descr=""/>
          <p:cNvPicPr/>
          <p:nvPr/>
        </p:nvPicPr>
        <p:blipFill>
          <a:blip r:embed="rId4"/>
          <a:stretch/>
        </p:blipFill>
        <p:spPr>
          <a:xfrm>
            <a:off x="7462800" y="2359080"/>
            <a:ext cx="216000" cy="285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9" descr=""/>
          <p:cNvPicPr/>
          <p:nvPr/>
        </p:nvPicPr>
        <p:blipFill>
          <a:blip r:embed="rId5"/>
          <a:stretch/>
        </p:blipFill>
        <p:spPr>
          <a:xfrm>
            <a:off x="3625920" y="3503520"/>
            <a:ext cx="360360" cy="285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9" descr=""/>
          <p:cNvPicPr/>
          <p:nvPr/>
        </p:nvPicPr>
        <p:blipFill>
          <a:blip r:embed="rId6"/>
          <a:stretch/>
        </p:blipFill>
        <p:spPr>
          <a:xfrm>
            <a:off x="3419640" y="3852720"/>
            <a:ext cx="360360" cy="285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9" descr=""/>
          <p:cNvPicPr/>
          <p:nvPr/>
        </p:nvPicPr>
        <p:blipFill>
          <a:blip r:embed="rId7"/>
          <a:stretch/>
        </p:blipFill>
        <p:spPr>
          <a:xfrm>
            <a:off x="2627280" y="4508640"/>
            <a:ext cx="360360" cy="285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9" descr=""/>
          <p:cNvPicPr/>
          <p:nvPr/>
        </p:nvPicPr>
        <p:blipFill>
          <a:blip r:embed="rId8"/>
          <a:stretch/>
        </p:blipFill>
        <p:spPr>
          <a:xfrm>
            <a:off x="4768920" y="4489560"/>
            <a:ext cx="35856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2" descr=""/>
          <p:cNvPicPr/>
          <p:nvPr/>
        </p:nvPicPr>
        <p:blipFill>
          <a:blip r:embed="rId1"/>
          <a:stretch/>
        </p:blipFill>
        <p:spPr>
          <a:xfrm>
            <a:off x="114480" y="981000"/>
            <a:ext cx="8915400" cy="54388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9" descr=""/>
          <p:cNvPicPr/>
          <p:nvPr/>
        </p:nvPicPr>
        <p:blipFill>
          <a:blip r:embed="rId2"/>
          <a:stretch/>
        </p:blipFill>
        <p:spPr>
          <a:xfrm>
            <a:off x="1476360" y="3284640"/>
            <a:ext cx="934920" cy="285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9" descr=""/>
          <p:cNvPicPr/>
          <p:nvPr/>
        </p:nvPicPr>
        <p:blipFill>
          <a:blip r:embed="rId3"/>
          <a:stretch/>
        </p:blipFill>
        <p:spPr>
          <a:xfrm>
            <a:off x="3276720" y="3284640"/>
            <a:ext cx="934920" cy="285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9" descr=""/>
          <p:cNvPicPr/>
          <p:nvPr/>
        </p:nvPicPr>
        <p:blipFill>
          <a:blip r:embed="rId4"/>
          <a:stretch/>
        </p:blipFill>
        <p:spPr>
          <a:xfrm>
            <a:off x="5600880" y="3265560"/>
            <a:ext cx="934920" cy="285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9" descr=""/>
          <p:cNvPicPr/>
          <p:nvPr/>
        </p:nvPicPr>
        <p:blipFill>
          <a:blip r:embed="rId5"/>
          <a:stretch/>
        </p:blipFill>
        <p:spPr>
          <a:xfrm>
            <a:off x="7442280" y="3274920"/>
            <a:ext cx="936720" cy="285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3" descr=""/>
          <p:cNvPicPr/>
          <p:nvPr/>
        </p:nvPicPr>
        <p:blipFill>
          <a:blip r:embed="rId6"/>
          <a:stretch/>
        </p:blipFill>
        <p:spPr>
          <a:xfrm>
            <a:off x="468360" y="4508640"/>
            <a:ext cx="82008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7T07:04:4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